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8D3-5A81-4449-B421-861472C6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F68-13A1-4125-92C0-23568E8F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55B0-6921-4B11-B331-9A249670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E033C-7E99-48E8-9F9C-07D74CC9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94D74-F741-4BDB-A7BA-0C01F5F4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B6FBE-A68A-4AF1-87AF-5229D1F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40946-C39D-4E3D-9BAE-0278F22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B749B-8B3F-4445-B20C-C450BA15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58154-0959-4648-BEF5-5ECD3B02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24F2B-5A5A-4B05-9BCF-1DC98237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B8239-A446-4A73-B315-3D2EEE96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FFC3E-EC6F-4E28-8352-009268FC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E76-B140-4219-BB0A-87EC08D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C730A-0741-435F-B792-7EC84B4C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7689F-D279-464B-9D5F-F6C95AC8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76D12-E527-419B-AAFB-FF5930A1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FD2E7-98F7-4EDC-8173-0930DD2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A5835-162E-411A-A581-D2E4B643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4DF10-2C05-4AD9-B1E0-5735E53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28AB3-4F3B-4F9F-85F4-92DC335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45176-4388-41F9-8253-9768DF2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5318A-7D0C-4E2B-AFEA-320546D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0F847-1770-4B24-9EFC-69057D5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96A-D6EC-4EC2-9EE8-3C301958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84987-2701-477A-8DAB-9F8715E3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546F7-47DD-4A95-914C-EFF8BE7C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D1F6-99CF-487A-93CC-AF69A017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5B13-B73C-4493-9A9F-37AC8042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CEF19-4186-43FD-82C4-20898186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F5C2-963A-4AB9-BED9-24777DA7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AA01F-BD50-4281-ADB7-45E6A4A3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7C081-514A-4CB1-8ACB-F365F35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BBCC1-4CD9-4BE3-BD24-FD84128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138EF-CFCA-4E0C-A267-5C709239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943D-B788-4362-AC56-223454F9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9CA1-A66C-47CB-BF5B-44C647F7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AB5AA-BB8B-4FC1-A413-FA6F7A95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92247-4D1F-42E3-AAEB-18B376BC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0C8BE-AFE9-4C7F-9067-0DC0E5C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96335-0036-4EC0-92F0-20E7F4C3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E57B5-ACAF-44C0-8884-DB54B1C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C6B77-AFCB-47BC-84B0-91E1706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9A524-D1F1-410E-80C4-CDAAFA43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1D835-B250-422F-80F7-25238B3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1E0AA-5494-43A6-B238-D453ED3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BE2E-A66A-47C2-AB8B-32B0FC9B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09C44-46E5-4552-A0A4-FC786C6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53364-EEF4-4FE2-A737-DE3E2E3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F638-6E0F-41A0-8D20-E92F99E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6048D-6DB1-48AA-8223-10AEF850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02FBB-2592-41EC-BF17-C0287616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E7132-DB22-43CB-8CA4-2A98B165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75B38-AB6F-49B4-B4B4-B62728E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BDF66-DBC0-40F7-9B19-A8B2B55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79331-FBDD-48B9-8703-A4F03B46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8C102-48AD-43E1-93AA-90CCFB2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C3D1-9678-458A-B6CF-4567526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42128-E030-4B2C-8DD8-803F81B2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A4B1B-9D22-4981-9938-8D3B2BC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1BD56-BC94-4E98-AFE2-67D30AD4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CF1A6-E025-454F-B7F5-1D1DDBD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F5505-8DCA-4E3D-B28D-7D2D3B49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28A34-887A-4BBC-89AC-1808A96B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46B36-F5F5-42E4-ADB0-39E11651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14D66-4A1A-4C50-9992-F426B21E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E5CA5-3DDB-4FC2-B7AD-C95029F2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E2D1D-C049-41D8-B980-3C60B4F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E23-E8B0-4AB8-A021-983D6CBF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9AB0C-36EB-420A-8D45-21B1651A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15B3E-3B03-41C6-ADA9-5BB39D0D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53B68-EA6D-43DF-9F0D-3EB3E201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FA88D-F9CB-4813-983A-3C05162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CABF1-7E27-499C-8DBD-31C91B9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C2EAB-1CA0-41A1-9433-0626614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23B51-FCAE-4E28-B376-2F87203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224E1-E5EC-4A71-8767-6D31EE46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E5C41-695C-45AE-873A-FE716F6C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597A9-01CC-454A-A32A-11B8DA29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E098-4BBB-4C6D-92A1-8C78038B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B2840-F8A9-42C8-8B12-03A69059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2478E-64B3-4342-B5C5-4A218B8E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3DBC6-FD11-4447-9B04-EEDBE05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9A5CB-E87C-40EC-A94E-4FF7C6B5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A3294-DA49-4EDD-B804-5DA5C88F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83E55-2C61-4B47-BF7F-2F69E4F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27B82-C6FD-417B-9488-7984D56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54615-4BC3-472F-A252-B7D3317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8B1D1-A8A9-4690-B10A-201C26C5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A6BFCA-B96E-4D22-B8B8-2FBD0B31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D16D-C0CB-45EB-B87B-D80B7E09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CD621-740A-48EB-A5D9-5FCBA461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B4D50-88A8-4001-BF08-F1AD6668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C1C26-0B4C-4B41-A330-CFD208C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096F8-7D1D-4DB4-8CFB-61A84AB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708CF-50C3-42A8-958D-3C8BA917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D6FAB-2640-4AE7-8B11-439112B2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F8E37-08BF-4546-8C46-27E73EB2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69B57-45B5-4DB3-AB9E-C9458BD6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9271A-5E46-47AD-BB2D-91D26A6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DC2DC2-7840-45BE-99C0-14C99567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7051-61B9-49BA-B0D3-98009D0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F7AE6-6271-4F53-AE9C-C280EDE7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C18B6-09FD-430A-AC65-FC5679E2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CE94C-12EA-43DF-9873-6DF9C938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2F8A4-8C51-4DAD-B2A0-92F98139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798B3-0B83-44BB-8C53-325E0E73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2A31A-CA36-4C48-AB23-BE3E9CC6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45CC3-C43D-4E9A-B21E-30A3240E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888C6-B3C2-410F-AB1A-599FA17E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72553-6336-4CA3-A68F-5BAD768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E9D70-55E1-43B9-9C24-80681B6F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5FF-2E89-4F7E-BC77-576A684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236-A179-4FDD-9CED-2FDD264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94F5F-3209-4A65-8621-489DBCD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9D7EB-6ED5-4447-9F1F-EBBFD4E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633EB-0C8C-483C-B07C-4AC0DCB4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43480-1A9A-4B21-9179-1A55C924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F78FB-0E0C-436E-AA9F-A2D27458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09072-D73E-4D78-BAA8-A4278EBF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309E5-63E7-4F24-8FC8-ABC668B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60E48-611F-4624-8D07-CA017CB2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6F3AB-2142-4935-9329-282073B2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47588-097F-48E4-BB43-94123A3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3913-34B2-47A3-9D05-4052245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D9E3B-63E9-4821-B532-DE0F75B4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AB09F-A882-4DF5-99C0-281D5F9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62EBA-E00F-4B3B-8AE2-4E0EE1A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F69D6-7D1B-44FB-9818-A89F979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F02CB-4688-4D47-B8C6-CC46D39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D4C22-D1E7-4368-A225-56C8F426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4FA72-B63D-430C-BE09-D5C3160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87CE1-9D54-4EB8-975E-189530CC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9A954-6AA3-42FC-BC68-416B46E1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11302-0ADA-4526-ACAA-F16AACE0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E71C-54C8-4957-961C-7C6FC81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45862-B12F-43D0-9A75-FB551D81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84774-94C0-4F29-953F-8C9903E2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A58DDC-C1DF-4B2B-9439-F75F6731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4197D-86EC-46AD-8A6B-FA5CBB7F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CFA67-FBBE-4DE3-8588-D2C14C4A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AA019-0E50-4E49-93D5-90249DBD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BED83-6CFF-4655-BA75-D0E740DF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5DA58-FDD0-4DCE-B639-72B820A3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5063C-E27A-42B7-BA3D-C04E07BF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97542-6131-44E4-8512-165ADE4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FA95-479D-451D-95D9-E82A214F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AD3E0-6109-4C70-8A26-8DB4BA4B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95A3A-6476-4325-AA09-F23D419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FA660-92DB-46FF-8463-7794B2E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02C4E-7882-4CD6-8542-584CBD04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92A4B-E1FC-4164-8F45-662484D6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F87EB-1785-4F2C-BDBD-6DB0849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E0D4F-7EE1-486E-A815-FAED470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D0156-FE54-4343-956E-0D1BF98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CA0C7-2A9C-46D8-95FD-AFA542BC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12738-A503-455A-AD6C-0048A2D2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DDDD-5274-4D69-86D6-374954EE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AC9E1-B964-42E4-A237-F6EBDBD7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185322-0429-43DA-A09F-3351D710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7CAC6-6792-41C7-8657-5D3C9CE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F3154-E53C-4100-952C-88FED50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383E1-BC72-46FC-B596-28FFD41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98174-1E21-426D-9238-1F12C724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81548-243B-464B-8220-8CE03A28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6798F-53B6-43DB-8579-8701442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36F67-DC6B-416E-852F-CFADD2C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A2ACF8-C0AF-4AFE-8FFB-17940ED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680A-A99C-45F8-BDD3-F7863856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1AD9D-FD29-4BE0-A610-BBEFFD8A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F1AB2-32BB-496E-ABB4-C831D0E3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4FDAC-9430-4FF5-9F2C-1C211004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5E9172-8F70-41C5-B096-EC21C2B0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A08E2-F8D4-4A0B-83A9-7C4547B6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E8E299-E90F-4081-8633-92C6F0AF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810A2B-1281-4055-A7B7-A2C3D005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DDE3CE-A994-4B19-A1DF-899D417F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F8A82C-EBBC-45E5-85EE-D73DA57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6CED44-C357-4A6D-90A5-16B13CD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5802-5E81-4217-BF29-24D4D06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D2275-C1A3-4C0F-AE1A-DBBBA8C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CD670B-0CB2-4637-8D15-A6D36EC8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C7DD5B-D773-4465-892F-8D56AA9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CBD7D-99A0-41FF-A5A5-2CC0E8D9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5A4EAD-18F1-413B-9DC2-353DD464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41B7-DC30-4CBD-BDD3-859546E4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4BD4-78DD-4D9D-9622-0531EBBF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2FB8-6CC6-48FE-BC74-CAD2389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3EC-29F5-4F00-9A37-6CB6360D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619B-E746-4A0C-A989-A067721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0ADC-C341-4B88-B0A0-415024C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3651-838D-4E36-9407-929A050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4A6A-CFCE-4D38-B6A6-537138C0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A67F-EBA4-42E7-9852-3916A00A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C1B3-7FCC-4F00-8899-97321674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5D21-CCA7-47F3-A58E-8323238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BC2E4-38B8-43BE-8DA8-326029E7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6420-4E07-4B24-81BB-1C2FE12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67454-9E81-4663-8754-4B6582C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BCC-8F05-43D4-B29D-1F95D04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20EF-0DA8-45B6-A289-FCF0B03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FDFA8-53ED-44CC-849C-E5D49B03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2A59-469D-45B5-B4FD-D299A211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3636-5BF7-49C7-B1AB-7A0B760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0EEB-C129-45B8-89C6-3BFE7CE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A823-47BB-4112-9CA2-A9D62901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19A5-684E-4E72-9674-6F086BEF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C046-25AD-46B5-A1F5-10B180A7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F300-F00C-47E8-B290-B0763332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2F212-4926-418E-BD91-1F7D213E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430-AD10-4EA0-80F1-9BD9572B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852A-500A-4385-A6E0-763C908E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67A84-93F7-4043-BEE7-4E1806E4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29DF-9A49-4A90-A1F0-6745E26F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71F9-B997-4FEB-803F-DF891133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FBD2-D300-43AA-AF3A-1C4DD8C7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F156-9041-4608-AC22-84321C4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49AA-E5AF-4CCA-B477-BA37DFD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EA51D-A719-4ACC-96C9-4B95CC7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576D-3747-480C-AA1B-644C58D4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B89EF-3C86-4F4B-99BA-9ED5E1F8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8D7-3CE4-45E6-B950-845519F0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2ECB-300A-4D4D-A7BE-FD9550AC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A0E94-DA39-4D18-839C-23F0A23B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4DE3-0D17-4F48-AE09-0F4808D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FF50F-5112-4BB8-9DDE-1A7013C7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CF5D7-E949-4EA2-9030-98A50BAB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E08E-B39C-4CB9-9019-6A5BD5F8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0C36D-52AC-4C07-947C-70A275E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2A78-AAC5-47D6-9BD5-2C774B4F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086E-E727-4667-B7E4-2C5B8940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24694-EAE1-4D8D-8CD8-4FDEDD4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F6C-B728-427D-B8BD-D8D180D9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DE562-150D-4E9B-AE24-41D4CB51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7CEE-01ED-49CB-AD55-59AFDE34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C723-9C80-44FA-B161-48739E24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8314E-94B5-49A9-8AA9-A6611E10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2901-4D1C-4326-A5E8-25B67812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2F17-BD97-4A6E-9398-FD508839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0B770-6D41-4B86-9706-0C625203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865B-2304-4A93-992F-BCCBF01E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BB85-8E5D-4C9B-A6C2-570A48BC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41CB-C6ED-4A5B-A18D-CBD75B3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132-5766-41B4-984C-760E1BDC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5C53B-7E5D-443F-8539-9B86E6A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0C14-0DA9-4276-9CF7-3D438F45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058D-BABE-48AF-92DA-390ADDA2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23206-8EF5-4681-ABBB-D2A2F005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09CD7-5F99-4FED-9D2F-071068DA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65E1B-3A85-4554-B68C-B9F90477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34EC4-2D69-40D4-9904-58C2B61B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6D904-4677-4483-8F64-18415B6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BB49-9D55-49CE-96D5-3853FE4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ADBF-917F-4BCC-BDE8-7950A2CB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CE6-2234-4D95-9AB6-CFCAF20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9907-E609-4C9B-8EFE-EDF747A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24877-EAF5-4187-98BA-D37D9FF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6D90F-D7FE-4C3E-8AD0-BA41FAAA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713B-4F40-4F8F-AF32-092BE04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9456-3C27-4246-BA2C-79600D3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0544E-E64E-41CB-BC03-DD25D1B4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77C16-2C11-4CED-A6E6-87A43722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059AF-E306-4943-A54D-D7C812E8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18593-3FE4-41D5-B475-1CB9A0B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58B3C-D883-4707-8FB7-67F2C90D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4171-DE46-4AE9-84A2-8D1910B0EC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218-9921-4978-9C02-455588EBD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10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0C7-53D1-4630-ACC5-D1A4A0181D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B54C-6DA1-4F3B-9B59-F4CEC65666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469-56D1-44ED-90F5-46BF03F38F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A8A8-20DE-478E-B6BD-25E07E17A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79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27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628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9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3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4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5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9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76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77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9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90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97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2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9A2-6D46-4DB4-AFBF-1FA76BF8F02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744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3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55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7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8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9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1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2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6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8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9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1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2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3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92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93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4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7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8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99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0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1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2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3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04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9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842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4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855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862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B350-2E10-4925-96F4-DAE29C66E00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0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1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2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4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6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C2FA-8864-455A-9791-968731939B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1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2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6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07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437C-E9D3-4468-9F25-3639A0B16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11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AFD-916D-4FAE-92DF-8BF0D22198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C289-A0C5-41AC-A66C-2FECCE47D7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16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BE7C-AA8F-4081-A598-62D5997CEC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752B-5F9C-47B7-990A-D8E4A17561D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ftr" idx="6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7CE6-F7FD-41E8-AB6D-2D6AC5C7EFA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AE67-6D4F-49A1-98DA-6BAF598516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AB2F-6A0E-490C-81F4-F81B229F59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D2B-2430-4C1D-BE31-51BEF5D885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2AD-3CD1-4BDD-A35E-F53FB0BFF9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0A8-5E19-4478-A264-C75DFEA36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83B-C3E3-454A-B4E3-1EE326A214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714B-DEE6-477D-993F-106F8CB4C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0039ac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0039ac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早晨上学迟到的理由： “闹钟没响”；“自行车坏了”；“看错时间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“两操”迟到，跑操不好，不认真锻炼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自习课玩耍，说小话，学习不专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不认真看书复习，每天只是应付作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随地扔垃圾，不将废弃物放入指定位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值日、清洁劳动不认真，应付了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好习惯结好果 坏习惯酿恶果</a:t>
            </a:r>
            <a:br>
              <a:rPr sz="4800"/>
            </a:b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——我们可以养成的好习惯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信守承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安排好作息时间，上学上课不迟到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从来不忘记每天复习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快速处理各种琐碎的事务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上课积极倾听，认真听讲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不仅要做计划，而且要马上实施行动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讲究个人卫生，爱护学习、生活环境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与人交谈时，保持良好的姿势和微笑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保证每天的饮食健康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锻炼身体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多读有益的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控制情绪和脾气，用和平方式解决矛盾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给家人或朋友打电话或写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如何养成成功的习惯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行为心理学研究表明：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以上的重复会形成习惯，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90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的重复，会形成稳定的习惯，即同一个动作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就会成为习惯性动作。同理，同一个想法，重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天，或重复验证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，就会变成习惯性想法。所以，一个观念如果被别人或是自己验证了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次以上，它一定已成为你的信念，塑造一个良好的习惯，大致有三个阶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70036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播种习惯 </a:t>
            </a:r>
            <a:r>
              <a:rPr b="1" lang="zh-CN" sz="4800" spc="-1" strike="noStrike">
                <a:solidFill>
                  <a:srgbClr val="8c0039"/>
                </a:solidFill>
                <a:latin typeface="Arial"/>
              </a:rPr>
              <a:t>·  </a:t>
            </a:r>
            <a:r>
              <a:rPr b="1" lang="zh-CN" sz="4800" spc="-1" strike="noStrike">
                <a:solidFill>
                  <a:srgbClr val="8c0039"/>
                </a:solidFill>
                <a:latin typeface="幼圆"/>
                <a:ea typeface="幼圆"/>
              </a:rPr>
              <a:t>收获成功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8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步一步的走，漫漫长路有尽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针一针的缝，褴褛之衫变天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砖一瓦的垒，铜墙铁壁耸云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片一片的积，万丈雪层深似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ep and then another, and the longest walk is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itch and then another, and the longest rent is 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brick upon another, and the tallest wall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flake and then another, and the deepest snow is la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3300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698688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大处着眼，小处着手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百尺高台，起于垒土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方正舒体"/>
              </a:rPr>
              <a:t>当你从小处入手，并借助积累的力量，那么改掉习惯也将变得十分容易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你每天早晨的想法将决定你一整天的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Your morning thoughts may determine your conduct for the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威廉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M 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派克（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William M. Peck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345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何度过早晨，决定了我们日常行为规律是否能发挥它潜在的威力。它究竟是由好习惯构成，还是被坏习惯充斥，早晨的时光将彻底揭示问题的答案。如果我们希望自己不至于一生碌碌无为，并能够最大限度地发挥潜能，那么，养成有效利用早晨时光的良好习惯将至关重要。</a:t>
            </a:r>
            <a:r>
              <a:rPr b="1" lang="zh-CN" sz="3200" spc="-1" strike="noStrike">
                <a:solidFill>
                  <a:srgbClr val="ffcc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每天晚上总结一下自己一天里所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um up at night what thou has done by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罗德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赫尔伯特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Lord Herb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天中的第二个关键时刻出现在晚上。在心中默默整理和评价一下自己一天中完成的事情，并规划好自己第二天应该做的事情，对于第二天早晨是否能够正确做好计划，以及是否能够拥有一个良好的开端至关重要。制定一天的计划，并坚持执行计划，将让你的工作变得效率更高成绩更大。如果，每一天你都无法完成自己希望完成的事情，那么，你应该反躬自问一下，症结或许就在于缺乏计划。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——事先制定计划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007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成功实现目标的人群中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事先制定   计划者高达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78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☆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在改变或培养好习惯的努力过程中，还有一个关键的要素，那便是他人的支持。亲人、朋友，或者同学，都可以成为支持、鼓励、激励你的人选，或成为友善的提醒者——他们完全有可能决定我们究竟是成功地改变生活的某个方面，还是继续糟糕的现状。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Arial"/>
                <a:ea typeface="华文行楷"/>
              </a:rPr>
              <a:t>习惯无处不在</a:t>
            </a:r>
            <a:br>
              <a:rPr sz="6800"/>
            </a:b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             ——学习习惯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1331640" y="328464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学习成绩的好坏，往往取决于是否有良好的学习习惯，特别是思考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总是站在系统的高度把握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很多同学在学习中习惯于跟着老师一节一节的走，一章一章的学，不太注意章节与学科整体系统之间的关系，只见树木，不见森林。随着时间推移，所学知识不断增加，就会感到内容繁杂、头绪不清，记忆负担加重。事实上，任何一门学科都有自身的知识结构系统，学习一门学科前首先应了解这一系统，从整体上把握知识，学习每一部分内容都要弄清其在整体系统中的位置，这样做往往使所学知识更容易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 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追根溯源，寻求事物之间的内在联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学习最忌死记硬背，特别是理科学习，更重要的是弄清楚道理，所以不论学习什么内容，都要问为什么，这样学到的知识似有源上水，有木之本。即使你所提的问题超出了中学知识范围，甚至老师也回答不出来，但这并不要紧，要紧的是对什么事都要有求知欲，好奇心，这往往是培养我们学习兴趣的重要途径，更重要的是养成这种思考习惯，有利于思维品质的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5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学习好习惯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(3)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发散思维，养成联想的思维习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在学习中我们应经常注意新旧知识之间、学科之间、所学内容与生活实际等方面的联系，不要孤立的对待知识，养成多角度地去思考问题的习惯，有意识地去训练思维的流畅性、灵活性及独创性，长期下去，必然会促进智力素质的发展。知识的学习主要通过思维活动来实现的，学习的核心就是思维的核心，知识的掌握固然重要，但更重要的是通过知识的学习提高智力素质，智力素质提高了，知识的学习会变得容易。所以上面讲的学习的三个学习习惯实质上是三种思维习惯。学习的重点就是学会如何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2500"/>
              </a:spcBef>
              <a:buClr>
                <a:srgbClr val="0075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启示：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有自己的错题本、袖珍笔记本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掌握“通法”，用它解决一类问题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听课抬头、自习埋头、走路昂头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定期整理学习资料，做到有序存放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狠抓基础，不懂就问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注重预习和复习，独立完成练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cc"/>
                </a:solidFill>
                <a:latin typeface="Arial"/>
                <a:ea typeface="华文彩云"/>
              </a:rPr>
              <a:t>讨论与学习</a:t>
            </a:r>
            <a:br>
              <a:rPr sz="72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——习惯意义非凡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684000" y="2997000"/>
            <a:ext cx="708804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列举几个自己希望改掉的坏习惯，以及期望养成的好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4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1186920" y="3284640"/>
            <a:ext cx="7488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即使是痛苦的，我们也要去养成好的习惯；因为如果不这样，坏的习惯会让我们更痛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播种习惯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·  </a:t>
            </a: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收获成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一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8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   第四周班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33ff"/>
                </a:solidFill>
                <a:latin typeface="Arial"/>
              </a:rPr>
              <a:t>习惯可以改变的，只要不断重复就可以了。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有一句话是：思想决定行动，行动决定习惯，习惯决定性格，性格决定命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今天这个游戏告诉我们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256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6767ff"/>
                </a:solidFill>
                <a:latin typeface="Arial"/>
                <a:ea typeface="隶书"/>
              </a:rPr>
              <a:t>坏习惯与命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62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有一家食品公司要招聘一位卫生检测员，一位衣冠楚楚、气度不凡的年轻人自信地走进了总经理办公室，他优雅的谈吐，扎实的专业知识赢得了总经理的好感，没想到就在年轻人转身离开的时候，他下意识抠了一下鼻孔，这个不起眼的小动作并没有逃过总经理的眼睛，结果可想而知，一个没有良好卫生习惯的人怎么能够做卫生检测员呢？当然，年轻人到死也不会知道是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抠鼻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坏习惯毁了他的工作，使到手的饭碗落入了他人之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在武汉某高校研究生考点外，一考生被几个保安人员拦下，被告知超过了规定入场时间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，眼睁睁地失去了考试资格。该考生说，为了专心备考，他辞掉了网络公司的工作，牺牲了很多东西，到头来却因为这个缘故被拒之门外。在上海，也有考研生因为进不了考场而痛哭流涕，其中一位不断向老师苦苦哀求：“我为今年考研已经准备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我很有信心考上，老师给我一次机会吧。”类似的情形其他地方也存在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泪水，值得同情；规则，应该遵守。 须知，“守时”，既是一种行为规范，也是一种必不可少的品格修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高校的几位学者，有一次到国外参加会议期间，按照约定，拟与某一外国组织成员开个座谈会。不料，我们的这几位学者不知什么缘故迟到了几分钟。结果，对方彬彬有礼地退了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title"/>
          </p:nvPr>
        </p:nvSpPr>
        <p:spPr>
          <a:xfrm>
            <a:off x="2340000" y="-360"/>
            <a:ext cx="4968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</a:rPr>
              <a:t>坏习惯与命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d7da9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如果你希望出类拔萃，也希望生活方式与众不同，那么，你必须明白一点——是你的习惯决定着你的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If you want to distance yourself from the masses and enjoy a unique lifestyle, understand this——your habits will determine your future.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杰克</a:t>
            </a:r>
            <a:r>
              <a:rPr b="1" lang="en-US" sz="2800" spc="-1" strike="noStrike">
                <a:solidFill>
                  <a:srgbClr val="0033cc"/>
                </a:solidFill>
                <a:latin typeface="Gulim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坎菲尔德（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Jack Canfield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），全球畅销书《心灵鸡汤》的作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5976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幼圆"/>
                <a:ea typeface="幼圆"/>
              </a:rPr>
              <a:t>说说自己 关于“好习惯” “坏习惯” 的故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 rot="5400000">
            <a:off x="5495040" y="2218320"/>
            <a:ext cx="37717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交流空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900000" y="112536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14" name=""/>
          <p:cNvSpPr/>
          <p:nvPr/>
        </p:nvSpPr>
        <p:spPr>
          <a:xfrm>
            <a:off x="1116000" y="3213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发现身边同学的好习惯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           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不良习惯“现象”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上课了，有的同学才手忙脚乱的翻找试卷、练习本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考试前想到了一个题，但就是忘记记在哪里了，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考试失败的原因：“看错题了”；“答案涂错了”；“看错要求了” 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24000" y="436572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、简单题没耐心做，困难题没恒心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简单事不屑做，    困难事胆怯做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小事做不来，        大事做不成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40:4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9:44Z</dcterms:modified>
  <cp:revision>50</cp:revision>
  <dc:subject>主题班会课件(分28大类): http://shop62905894.taobao.com</dc:subject>
  <dc:title>主题班会课件(分28大类): http://shop62905894.taobao.com</dc:title>
</cp:coreProperties>
</file>